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DFDDA-6D57-4E58-A310-00925626E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87AD8-7A74-4BB7-B4C8-72845DF21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D438B-C053-4612-813F-B6E1CFCC8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F16C7-37FF-4676-9714-BE963F485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FD6F9-8029-438A-9DE6-964583A9A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75061-A46E-4F65-B478-48A917AE0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B54B9-CCBB-40E7-B04A-9ED24EF49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970AC-A1B7-4A23-B5D7-FAB7D43D8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5DF60-5788-4F26-985E-704281B43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88BBA-EBA0-4702-89D9-4311DF4AA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0A97C-C505-447F-B232-292EF9141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0055D-40D7-4AEF-AA13-152756204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54DC4-3692-4CED-B786-3A478E5204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ERCIŢII DE RECEPTARE</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5840"/>
            <a:ext cx="8153280" cy="609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şi Literatura Română, clasa a X</a:t>
            </a:r>
            <a:r>
              <a:rPr b="0" i="1" lang="en-US" sz="1000" spc="-1" strike="noStrike">
                <a:solidFill>
                  <a:srgbClr val="000000"/>
                </a:solidFill>
                <a:latin typeface="Arial"/>
              </a:rPr>
              <a:t>-a</a:t>
            </a:r>
            <a:r>
              <a:rPr b="0" lang="en-US" sz="1000" spc="-1" strike="noStrike">
                <a:solidFill>
                  <a:srgbClr val="000000"/>
                </a:solidFill>
                <a:latin typeface="Arial"/>
              </a:rPr>
              <a:t>, Doina Ru</a:t>
            </a:r>
            <a:r>
              <a:rPr b="0" lang="ro-RO" sz="1000" spc="-1" strike="noStrike">
                <a:solidFill>
                  <a:srgbClr val="000000"/>
                </a:solidFill>
                <a:latin typeface="Arial"/>
              </a:rPr>
              <a:t>ş</a:t>
            </a:r>
            <a:r>
              <a:rPr b="0" lang="en-US" sz="1000" spc="-1" strike="noStrike">
                <a:solidFill>
                  <a:srgbClr val="000000"/>
                </a:solidFill>
                <a:latin typeface="Arial"/>
              </a:rPr>
              <a:t>ti)</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a clarifica această afirmaţie oferim trei tipuri de interpretare pornind de la unul dintre cele mai discutate romane: Doamna Bovary de G. Flauber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000000"/>
              </a:solidFill>
              <a:latin typeface="Arial"/>
            </a:endParaRPr>
          </a:p>
        </p:txBody>
      </p:sp>
      <p:pic>
        <p:nvPicPr>
          <p:cNvPr id="46" name="Picture 6" descr=""/>
          <p:cNvPicPr/>
          <p:nvPr/>
        </p:nvPicPr>
        <p:blipFill>
          <a:blip r:embed="rId1"/>
          <a:stretch/>
        </p:blipFill>
        <p:spPr>
          <a:xfrm>
            <a:off x="5029200" y="160020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st distractiv: Ai aptitudini de critic, de estetician ori de filozof?</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şti strigat pe stradă; vocea îţi este necunoscută, însă rosteşte numele tău întreg. Ca să vezi cine te strigă trebuie să te întorci. Ce fac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prefaci că nu auz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întorci şi încerci să descoperi persoana care te strigă;</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rgi foarte încet şi aştepţi să te ajungă din urmă.</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face o chetă pentru un coleg care are nevoie de ajutor.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ebi pentru ce se strâng banii şi apoi contribu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tizezi fără să întreb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particip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buie să aştepţi două ore într-un campus şcolar; ce variantă alegi dintre următoarele trei posibilităţ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iteşti o cart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uiţi la tv.;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ai de vorbă cu cineva.</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8T13:34:16Z</dcterms:modified>
  <cp:revision>26</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